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289-AE26-4049-967E-ABB6A39B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2A0-5204-4545-A352-1FB45162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E4E42-B198-4250-9766-AAD18B9E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FCA21-1973-44E9-AFDB-98662170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DB61A-10F0-490C-9744-0A4E0027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87049-5FEC-4347-B659-0D89A4F2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496F5-5D08-4D25-81F7-A1E878E5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7C4D1-0C58-4027-A830-6E708B08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52E72-A997-416C-8324-4A065CA0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FEBA6-2C61-48F7-8609-31A3D59B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47B15-8E16-40B5-8631-897CE714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85AED-FB1E-459E-8D00-CA2C78C8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1C8-78DD-4508-ABC3-F11B60DE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8AD81-AE10-4589-A0CD-DBA74791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7F302-F5A5-4437-BAFF-DA7A82D2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ECE26-5D45-473E-923F-F3CB78CE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038A6-453E-4F7D-8DD2-FCA2FA67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5D710-CFD2-4258-9104-E709D245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EDD6D-8957-4843-B375-6F4A4456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7F25D-E793-451B-9C90-54A93AD9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23E20-694F-4500-BFA7-1046B59A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5ABB3-2619-4665-BA0D-3DC4F72D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8083A-4907-4940-9BDD-6370B014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C17C-DFBD-4573-A2DA-A0DFAE70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C35D6-1EFC-41B0-B03E-206EB330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15759-5444-4956-9693-80139A2B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574D6-CDBE-4FA8-8765-14D699B1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1C484-4F65-4E32-A37C-28F45C33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DE4B0-9496-42CA-B2E8-5C0CA8ED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0988A-A365-443B-8579-C849D2BE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D7B5E-4D5A-43D9-A482-3DD77C9C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9AF84-2CF6-4F93-9395-CBF570FE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F484A-26BC-4C65-9B01-40E43A44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B6DD7-ACBE-4B64-AB15-AC58EFBE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6B31-E6A0-4795-A83F-52089E65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AD31F-F156-4E1C-8EA7-3E703DBB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679DF-3E2B-42D5-823C-EE1CBAF5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3A60F-B670-49E1-B971-8CCF830C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A3A62-FD72-4CF0-B187-61CA20F3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87597-ADD7-4CA0-B355-08D3F64D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E3679-5CCC-463C-9361-D795ECB7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A3141-D1A5-4A52-86D4-091DF768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051B1-9CAE-4AFD-9402-E8F5CFE0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1E363-646F-45AA-8C24-5BA0D54D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B8E2B-57B6-4090-ADE0-559E0609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8FEC-917A-4B4A-9F42-50F3A6D2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CBA19-DF39-4D19-A1B1-00B0D0AA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481DF-0A2D-4602-A9E3-9BFDC6BB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B9DD8-5018-4EF5-A835-605A0914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79A08-B4BD-47E5-9C50-D8830255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C29F3-585F-43E5-9BBB-31E426F6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A673-A22A-42AA-B47B-0C8B16F6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8127-BAF8-4F47-AC6A-DD15438B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4C1C-4D1A-4183-823F-3B7AD242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9625-1BAA-4932-A37F-C68AC3CC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C142-4D9A-4F48-A54C-9A5A55B4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403-AE9F-407A-A6DF-8418E6E1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DBCE-9514-4478-8192-46C0BE7E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72F5-B1DD-4C26-A9D3-6A7C88E9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E154-69E5-4D29-A6DE-A5A5333A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3EDE-C874-46EF-BE93-A37A9130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90F6-20B2-49BA-BFEC-3C3B9DF8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39069-16B0-48B2-9713-D76B87CA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7FCF1-641D-481E-8C69-2468D3D0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7ABBF-2BB2-47DF-A648-6318F1FF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684F3-BE99-452E-9964-5016C706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731A9-6912-4F4A-A06F-D5AD0023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4C9-9EC3-40F3-8E94-3D173274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55DE7-2803-4E70-AB6B-48529749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B82E1-82FF-4F30-8737-D3705711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171B7-5411-4342-B1FE-408FDE48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81966-4067-4B66-99C1-0F147FF2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D1EDA-D357-4303-B67A-4DCB56FC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AA751-F824-4C64-9D3A-9812F142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AC0EC-094C-4ADE-9555-962BB4CF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B6B53-DB1E-4E8E-A233-DD910B97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4CBD5-3008-43B2-9B5E-835CE063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CB643-7E94-4AE5-8B45-BBF359FA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618-24B5-468C-9ED4-4711B738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79C31-4B65-47B3-8445-F39FCCD3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E5807-8715-482B-BD47-94FC8F95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3851C-55B3-424E-9CB0-6373A545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4F6B5-5C10-4515-8ACC-E6245A0C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BC3FA-569C-4034-9AA5-49D46EB8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70C35-A2B7-4DB3-AD32-364D6531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A0647-096D-4538-B87C-0943AA62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02887-6B17-41AD-A60D-46925338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D8257-C291-43FC-81FF-4AE4E168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EFD57-6829-4FC4-BC10-5C966EC9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0D45-FA34-4F99-A28E-4A747801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CD549-9FD7-45EC-A0B2-37C8A8C9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65143-9E24-41A5-8879-D7AB92D1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83FFD-266D-41F9-B6C9-85DB5A76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48082-4B50-4926-911B-296606AB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A3247-7C20-4957-BFA7-100B0440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67ECF-F208-41D0-946F-65830687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82B20-0681-4469-AB68-5412AE6D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E0B64-B7AF-4603-9D15-814CC7BA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931C0-4B6D-47BF-8A95-A1A1ECBA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F9054-A1D1-4616-B61C-8D8A97CB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05C-AA3F-468D-B811-58298E0A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ADC5B-5171-4DBB-86D6-BC555149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54ACD-A1EA-40F5-81F9-BB59FF3B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1B661-E1CD-4AA4-814B-98962BE8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5FB3B-B32E-43BC-B41C-E0BCA852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23B4D-36BA-4C1E-9120-A899753F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FE5FB-F10C-4B0E-8269-8C93A1BA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AA2C3-D40D-4EBF-9ADB-F982E257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2CC4E-8FEB-4B9B-A669-11222842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26BF2-412B-47DA-B2AD-37AECBB1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6437F-F8C6-46C5-B32D-EB5924FB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145E-FC52-4774-9BBF-F8FFD48D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67ED9-32DF-4829-AE8B-D5A07DD2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1D1D6-81A9-43DF-8EE8-AD72930B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1C6A4-B99B-4FA4-89F8-7C96067E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A3D0F-6193-4066-BD00-1D021531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FE974-3080-445E-A59A-4CC3E557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EDECA-4CC1-4A4A-9654-378F833F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E1879-C1D3-4D87-A288-1A63CAF5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B178D-D097-49D3-8D8E-3C8B43E6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C3CE6-6217-4D6A-A4BA-07C89069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A34A2-BA34-4A12-AD6B-B8AB263E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85C-C804-4AAA-B2E2-6DCEEFE6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B9C2E-AB3A-4174-8201-1AA0E81E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2E936-0940-43F7-941F-EC31A63E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3AFA0-B3CC-42C5-94B2-114A9426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28BCD-DDEB-4FA7-AD67-AAC189DE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6F44E-57B2-4F9D-9DED-1A0D5EEF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521EE-86CB-483D-8583-24BA641E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9E8C6-3AC2-43C1-B0E7-99025589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1E74C-C474-4489-9501-2BE25E73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144EA-567F-4980-991C-97D36C78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1097B-1B1E-4547-A8EB-2ECCD4B7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C30F-0E9A-457C-865B-BA5CE9CC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8E513-A338-4632-9658-3A9F38BF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46758-4C20-4C93-84BF-704CA381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F5A5D-0105-47CC-A4F4-483DD81C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BE246-122A-4D8C-BBB4-98F1B6AA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025B5-2514-4AD7-A377-32767C51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9DEB6-5029-401C-857D-F4D40D95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C8BAC-6831-43B4-8ABC-C07655F7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5CE15-C839-4025-8111-87C93354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2A333-8DB6-4797-8D0C-99996ACB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5D5AC-2DF6-46C3-B7F9-59708315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1d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F1A7-0581-4986-A248-3B238C43F0BE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EB3E-1C1D-40A3-A98D-F484AFE5EF85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71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37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1d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4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71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37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9BDC-EF1A-42D9-99CA-C31FFCA5EBF2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1F44-6673-4D7E-9535-36C6FD3F4029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1d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71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37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39C0-287E-4823-9026-69D18221FB32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3B92-1303-4F61-AF37-AA5C479B60D7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1d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530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71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37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B180-850D-4E40-95C2-AB8066EF72EE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2D53-D162-4640-A3ED-83D3DC3C577A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1d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50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71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37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9A29-2F75-498C-9EF8-4645A12DDB8F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6F5A-FC8A-4680-B054-A0A545D7F09C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1d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71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37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6418-8079-4994-8C62-3E9D9253FD86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6F3F-A702-4F8A-B5B7-250B78F9820C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1d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46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71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37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D32C-6A07-4D52-B497-D26EAB6AE5DC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1783-12AC-4679-9CF5-967249DA1F94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1d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4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71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37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A8B6-CC30-47AB-AEC2-33F25164CF00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63D3-CC03-4BFE-85F5-977DE1DB2B31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1d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71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37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C9F6-00C7-438E-AF07-4EE809793C29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6310-6EB5-4237-B7C8-2438B40CE039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1d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90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71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37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A872-D9E2-432F-B05C-B0D2078F2F31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2DF8-BDB2-4A1C-890C-EF8EBA4DAE24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1d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8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71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37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E587-F092-4384-80C2-1A5E7D85F3AF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27C9-2C55-4EFE-9746-EE13B90832E0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1d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6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71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37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3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6879-A72E-41A5-8691-B3B41DDD08F2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911B-0E77-4841-A77B-933DF28079CD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69"/>
            </a:avLst>
          </a:prstGeom>
          <a:gradFill rotWithShape="0">
            <a:gsLst>
              <a:gs pos="0">
                <a:srgbClr val="0293e0"/>
              </a:gs>
              <a:gs pos="100000">
                <a:srgbClr val="81d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9"/>
          <p:cNvGrpSpPr/>
          <p:nvPr/>
        </p:nvGrpSpPr>
        <p:grpSpPr>
          <a:xfrm>
            <a:off x="210960" y="5353200"/>
            <a:ext cx="8723520" cy="1331640"/>
            <a:chOff x="210960" y="5353200"/>
            <a:chExt cx="8723520" cy="1331640"/>
          </a:xfrm>
        </p:grpSpPr>
        <p:sp>
          <p:nvSpPr>
            <p:cNvPr id="578" name="Freeform 14"/>
            <p:cNvSpPr/>
            <p:nvPr/>
          </p:nvSpPr>
          <p:spPr>
            <a:xfrm>
              <a:off x="6054480" y="5498280"/>
              <a:ext cx="2880000" cy="71496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8"/>
            <p:cNvSpPr/>
            <p:nvPr/>
          </p:nvSpPr>
          <p:spPr>
            <a:xfrm>
              <a:off x="2621520" y="536976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2"/>
            <p:cNvSpPr/>
            <p:nvPr/>
          </p:nvSpPr>
          <p:spPr>
            <a:xfrm>
              <a:off x="2831400" y="538200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6"/>
            <p:cNvSpPr/>
            <p:nvPr/>
          </p:nvSpPr>
          <p:spPr>
            <a:xfrm>
              <a:off x="5616000" y="5368680"/>
              <a:ext cx="3312360" cy="652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0"/>
            <p:cNvSpPr/>
            <p:nvPr/>
          </p:nvSpPr>
          <p:spPr>
            <a:xfrm>
              <a:off x="210960" y="5353200"/>
              <a:ext cx="8723520" cy="1331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武汉通大学生卡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记验证流程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学生自助圈存步骤 </a:t>
            </a:r>
            <a:r>
              <a:rPr b="0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- 1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78920" y="2205000"/>
            <a:ext cx="382284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打开武汉通行</a:t>
            </a:r>
            <a:r>
              <a:rPr b="0" lang="en-US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，选择微信登陆，并输入在最武汉上注册的电话号码和短信验证码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18" name="图片 5" descr="C:\Users\IVSUNS~1\AppData\Local\Temp\WeChat Files\538361750071982805.jpg"/>
          <p:cNvPicPr/>
          <p:nvPr/>
        </p:nvPicPr>
        <p:blipFill>
          <a:blip r:embed="rId1"/>
          <a:stretch/>
        </p:blipFill>
        <p:spPr>
          <a:xfrm>
            <a:off x="4067280" y="2206800"/>
            <a:ext cx="2396880" cy="426240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7" descr=""/>
          <p:cNvPicPr/>
          <p:nvPr/>
        </p:nvPicPr>
        <p:blipFill>
          <a:blip r:embed="rId2"/>
          <a:stretch/>
        </p:blipFill>
        <p:spPr>
          <a:xfrm>
            <a:off x="6481800" y="2205000"/>
            <a:ext cx="239400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学生自助圈存步骤 </a:t>
            </a:r>
            <a:r>
              <a:rPr b="0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- 2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78920" y="2205000"/>
            <a:ext cx="382284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切换到服务索引栏，选择“企业快充”，并进入页面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22" name="图片 6" descr="C:\Users\IVSUNS~1\AppData\Local\Temp\WeChat Files\244530260080512064.jpg"/>
          <p:cNvPicPr/>
          <p:nvPr/>
        </p:nvPicPr>
        <p:blipFill>
          <a:blip r:embed="rId1"/>
          <a:stretch/>
        </p:blipFill>
        <p:spPr>
          <a:xfrm>
            <a:off x="4060800" y="2198520"/>
            <a:ext cx="2397240" cy="426276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8" descr="C:\Users\IVSUNS~1\AppData\Local\Temp\WeChat Files\808683929729398840.jpg"/>
          <p:cNvPicPr/>
          <p:nvPr/>
        </p:nvPicPr>
        <p:blipFill>
          <a:blip r:embed="rId2"/>
          <a:stretch/>
        </p:blipFill>
        <p:spPr>
          <a:xfrm>
            <a:off x="6516720" y="2198520"/>
            <a:ext cx="2397240" cy="42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学生自助圈存步骤 </a:t>
            </a:r>
            <a:r>
              <a:rPr b="0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- 3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78920" y="2205000"/>
            <a:ext cx="382284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将武汉通卡片贴在手机背后，当听到“叮”一声，表明手机已经正确识别卡片（手机需要具备</a:t>
            </a:r>
            <a:r>
              <a:rPr b="0" lang="en-US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NFC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功能并打开）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选择充值金额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100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元，输入企业账户密码（即最武汉平台发送的短信验证码），点击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[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登陆后台账户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]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，并选择需要消费的账户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26" name="图片 5" descr=""/>
          <p:cNvPicPr/>
          <p:nvPr/>
        </p:nvPicPr>
        <p:blipFill>
          <a:blip r:embed="rId1"/>
          <a:stretch/>
        </p:blipFill>
        <p:spPr>
          <a:xfrm>
            <a:off x="4067280" y="2212920"/>
            <a:ext cx="2396880" cy="4262400"/>
          </a:xfrm>
          <a:prstGeom prst="rect">
            <a:avLst/>
          </a:prstGeom>
          <a:ln w="0">
            <a:noFill/>
          </a:ln>
        </p:spPr>
      </p:pic>
      <p:pic>
        <p:nvPicPr>
          <p:cNvPr id="627" name="图片 7" descr=""/>
          <p:cNvPicPr/>
          <p:nvPr/>
        </p:nvPicPr>
        <p:blipFill>
          <a:blip r:embed="rId2"/>
          <a:stretch/>
        </p:blipFill>
        <p:spPr>
          <a:xfrm>
            <a:off x="6516720" y="2212920"/>
            <a:ext cx="23972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学生自助圈存步骤 </a:t>
            </a:r>
            <a:r>
              <a:rPr b="0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- 4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78920" y="2205000"/>
            <a:ext cx="382284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跟随屏幕提示点击</a:t>
            </a:r>
            <a:r>
              <a:rPr b="0" lang="en-US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[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确定</a:t>
            </a:r>
            <a:r>
              <a:rPr b="0" lang="en-US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]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，进行消费操作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消费完毕后在“武汉通后台账户写卡”页面，再次将武汉通卡片贴在背后进行写卡，写卡成功后会提示写卡成功，显示写卡前和写卡后金额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30" name="图片 6" descr=""/>
          <p:cNvPicPr/>
          <p:nvPr/>
        </p:nvPicPr>
        <p:blipFill>
          <a:blip r:embed="rId1"/>
          <a:stretch/>
        </p:blipFill>
        <p:spPr>
          <a:xfrm>
            <a:off x="4102200" y="2212920"/>
            <a:ext cx="2396880" cy="426240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8" descr=""/>
          <p:cNvPicPr/>
          <p:nvPr/>
        </p:nvPicPr>
        <p:blipFill>
          <a:blip r:embed="rId2"/>
          <a:stretch/>
        </p:blipFill>
        <p:spPr>
          <a:xfrm>
            <a:off x="6516720" y="2212920"/>
            <a:ext cx="23972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武汉通行</a:t>
            </a:r>
            <a:r>
              <a:rPr b="0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App</a:t>
            </a:r>
            <a:r>
              <a:rPr b="0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查询余额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78920" y="2205000"/>
            <a:ext cx="382284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写卡完毕后，可以回到首页，在充值页面贴卡，可以查询到当前的余额和查看最近的</a:t>
            </a:r>
            <a:r>
              <a:rPr b="0" lang="en-US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笔消费记录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34" name="图片 5" descr=""/>
          <p:cNvPicPr/>
          <p:nvPr/>
        </p:nvPicPr>
        <p:blipFill>
          <a:blip r:embed="rId1"/>
          <a:stretch/>
        </p:blipFill>
        <p:spPr>
          <a:xfrm>
            <a:off x="4113360" y="2212920"/>
            <a:ext cx="2396880" cy="4262400"/>
          </a:xfrm>
          <a:prstGeom prst="rect">
            <a:avLst/>
          </a:prstGeom>
          <a:ln w="0">
            <a:noFill/>
          </a:ln>
        </p:spPr>
      </p:pic>
      <p:pic>
        <p:nvPicPr>
          <p:cNvPr id="635" name="图片 7" descr=""/>
          <p:cNvPicPr/>
          <p:nvPr/>
        </p:nvPicPr>
        <p:blipFill>
          <a:blip r:embed="rId2"/>
          <a:stretch/>
        </p:blipFill>
        <p:spPr>
          <a:xfrm>
            <a:off x="6534000" y="2212920"/>
            <a:ext cx="23972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73e87"/>
                </a:solidFill>
                <a:latin typeface="微软雅黑"/>
                <a:ea typeface="微软雅黑"/>
              </a:rPr>
              <a:t>作为武汉市人民政府十件实事之一，今年的大学新生将获得一张市政府赠予的武汉通大学生卡，预计超过</a:t>
            </a:r>
            <a:r>
              <a:rPr b="0" lang="en-US" sz="2400" spc="-1" strike="noStrike">
                <a:solidFill>
                  <a:srgbClr val="073e87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73e87"/>
                </a:solidFill>
                <a:latin typeface="微软雅黑"/>
                <a:ea typeface="微软雅黑"/>
              </a:rPr>
              <a:t>0</a:t>
            </a:r>
            <a:r>
              <a:rPr b="0" lang="zh-CN" sz="2400" spc="-1" strike="noStrike">
                <a:solidFill>
                  <a:srgbClr val="073e87"/>
                </a:solidFill>
                <a:latin typeface="微软雅黑"/>
                <a:ea typeface="微软雅黑"/>
              </a:rPr>
              <a:t>万新生受益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矩形 22"/>
          <p:cNvSpPr/>
          <p:nvPr/>
        </p:nvSpPr>
        <p:spPr>
          <a:xfrm>
            <a:off x="468360" y="3070080"/>
            <a:ext cx="6551640" cy="1944720"/>
          </a:xfrm>
          <a:prstGeom prst="rect">
            <a:avLst/>
          </a:prstGeom>
          <a:solidFill>
            <a:srgbClr val="ffffff"/>
          </a:solidFill>
          <a:ln w="15840">
            <a:solidFill>
              <a:srgbClr val="238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长江日报最武汉”微信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学生卡登记验证流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9" name="矩形 9"/>
          <p:cNvSpPr/>
          <p:nvPr/>
        </p:nvSpPr>
        <p:spPr>
          <a:xfrm>
            <a:off x="684360" y="3502080"/>
            <a:ext cx="914400" cy="914400"/>
          </a:xfrm>
          <a:prstGeom prst="rect">
            <a:avLst/>
          </a:prstGeom>
          <a:solidFill>
            <a:srgbClr val="31b6fd"/>
          </a:solidFill>
          <a:ln w="15840">
            <a:solidFill>
              <a:srgbClr val="238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关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0"/>
          <p:cNvSpPr/>
          <p:nvPr/>
        </p:nvSpPr>
        <p:spPr>
          <a:xfrm>
            <a:off x="2417760" y="3505320"/>
            <a:ext cx="914400" cy="914400"/>
          </a:xfrm>
          <a:prstGeom prst="rect">
            <a:avLst/>
          </a:prstGeom>
          <a:solidFill>
            <a:srgbClr val="31b6fd"/>
          </a:solidFill>
          <a:ln w="15840">
            <a:solidFill>
              <a:srgbClr val="238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登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1"/>
          <p:cNvSpPr/>
          <p:nvPr/>
        </p:nvSpPr>
        <p:spPr>
          <a:xfrm>
            <a:off x="4140360" y="3502080"/>
            <a:ext cx="914400" cy="914400"/>
          </a:xfrm>
          <a:prstGeom prst="rect">
            <a:avLst/>
          </a:prstGeom>
          <a:solidFill>
            <a:srgbClr val="31b6fd"/>
          </a:solidFill>
          <a:ln w="15840">
            <a:solidFill>
              <a:srgbClr val="238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验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12"/>
          <p:cNvSpPr/>
          <p:nvPr/>
        </p:nvSpPr>
        <p:spPr>
          <a:xfrm>
            <a:off x="7451640" y="3502080"/>
            <a:ext cx="914400" cy="914400"/>
          </a:xfrm>
          <a:prstGeom prst="rect">
            <a:avLst/>
          </a:prstGeom>
          <a:solidFill>
            <a:srgbClr val="ffc000"/>
          </a:solidFill>
          <a:ln w="15840">
            <a:solidFill>
              <a:srgbClr val="238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圈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3" name="直接箭头连接符 14"/>
          <p:cNvCxnSpPr>
            <a:stCxn id="589" idx="3"/>
            <a:endCxn id="590" idx="1"/>
          </p:cNvCxnSpPr>
          <p:nvPr/>
        </p:nvCxnSpPr>
        <p:spPr>
          <a:xfrm>
            <a:off x="1598400" y="3958920"/>
            <a:ext cx="819720" cy="396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594" name="直接箭头连接符 17"/>
          <p:cNvCxnSpPr>
            <a:stCxn id="590" idx="3"/>
            <a:endCxn id="591" idx="1"/>
          </p:cNvCxnSpPr>
          <p:nvPr/>
        </p:nvCxnSpPr>
        <p:spPr>
          <a:xfrm flipV="1">
            <a:off x="3331800" y="3958560"/>
            <a:ext cx="808920" cy="396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595" name="直接箭头连接符 20"/>
          <p:cNvCxnSpPr>
            <a:stCxn id="591" idx="3"/>
            <a:endCxn id="592" idx="1"/>
          </p:cNvCxnSpPr>
          <p:nvPr/>
        </p:nvCxnSpPr>
        <p:spPr>
          <a:xfrm>
            <a:off x="5054760" y="3958920"/>
            <a:ext cx="2397600" cy="108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sp>
        <p:nvSpPr>
          <p:cNvPr id="596" name="矩形 11"/>
          <p:cNvSpPr/>
          <p:nvPr/>
        </p:nvSpPr>
        <p:spPr>
          <a:xfrm>
            <a:off x="5796000" y="3502080"/>
            <a:ext cx="914400" cy="914400"/>
          </a:xfrm>
          <a:prstGeom prst="rect">
            <a:avLst/>
          </a:prstGeom>
          <a:solidFill>
            <a:srgbClr val="31b6fd"/>
          </a:solidFill>
          <a:ln w="15840">
            <a:solidFill>
              <a:srgbClr val="238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激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注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首先关注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"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长江日报最武汉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"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微信公众号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进入公众号界面之后，选择“公交卡登记”菜单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99" name="内容占位符 6" descr=""/>
          <p:cNvPicPr/>
          <p:nvPr/>
        </p:nvPicPr>
        <p:blipFill>
          <a:blip r:embed="rId1"/>
          <a:stretch/>
        </p:blipFill>
        <p:spPr>
          <a:xfrm>
            <a:off x="5587920" y="2679840"/>
            <a:ext cx="193824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输入姓名、身份证、</a:t>
            </a:r>
            <a:r>
              <a:rPr b="0" lang="en-US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QQ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号</a:t>
            </a:r>
            <a:r>
              <a:rPr b="0" lang="en-US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选填</a:t>
            </a:r>
            <a:r>
              <a:rPr b="0" lang="en-US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)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、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武汉通卡号（输入两遍）、手机号（一个手机号只能激活一张武汉通卡）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输入完成之后点击</a:t>
            </a:r>
            <a:r>
              <a:rPr b="0" lang="en-US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[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下一步</a:t>
            </a:r>
            <a:r>
              <a:rPr b="0" lang="en-US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]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02" name="内容占位符 6" descr=""/>
          <p:cNvPicPr/>
          <p:nvPr/>
        </p:nvPicPr>
        <p:blipFill>
          <a:blip r:embed="rId1"/>
          <a:stretch/>
        </p:blipFill>
        <p:spPr>
          <a:xfrm>
            <a:off x="5587920" y="2679840"/>
            <a:ext cx="193824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验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长江日报最武汉”平台向学生手机发送短信验证码来确认手机号的正确性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输入验证码之后点击</a:t>
            </a:r>
            <a:r>
              <a:rPr b="0" lang="en-US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[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确定</a:t>
            </a:r>
            <a:r>
              <a:rPr b="0" lang="en-US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]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05" name="内容占位符 6" descr=""/>
          <p:cNvPicPr/>
          <p:nvPr/>
        </p:nvPicPr>
        <p:blipFill>
          <a:blip r:embed="rId1"/>
          <a:stretch/>
        </p:blipFill>
        <p:spPr>
          <a:xfrm>
            <a:off x="5587920" y="2679840"/>
            <a:ext cx="193824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激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73e87"/>
                </a:solidFill>
                <a:latin typeface="微软雅黑"/>
                <a:ea typeface="微软雅黑"/>
              </a:rPr>
              <a:t>开户完成之后，领卡人的武汉通账户会自动激活存入</a:t>
            </a:r>
            <a:r>
              <a:rPr b="0" lang="en-US" sz="1700" spc="-1" strike="noStrike">
                <a:solidFill>
                  <a:srgbClr val="073e87"/>
                </a:solidFill>
                <a:latin typeface="微软雅黑"/>
                <a:ea typeface="微软雅黑"/>
              </a:rPr>
              <a:t>100</a:t>
            </a:r>
            <a:r>
              <a:rPr b="0" lang="zh-CN" sz="1700" spc="-1" strike="noStrike">
                <a:solidFill>
                  <a:srgbClr val="073e87"/>
                </a:solidFill>
                <a:latin typeface="微软雅黑"/>
                <a:ea typeface="微软雅黑"/>
              </a:rPr>
              <a:t>元，后台账户的余额需经过圈存操作将钱存入大学生卡之中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08" name="内容占位符 6" descr=""/>
          <p:cNvPicPr/>
          <p:nvPr/>
        </p:nvPicPr>
        <p:blipFill>
          <a:blip r:embed="rId1"/>
          <a:stretch/>
        </p:blipFill>
        <p:spPr>
          <a:xfrm>
            <a:off x="5587920" y="2679840"/>
            <a:ext cx="193824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圈存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领卡人可以下载武汉通行</a:t>
            </a:r>
            <a:r>
              <a:rPr b="0" lang="en-US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，在具有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NFC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功能的手机上自助圈存，或者携带武汉通卡，到校内指定的圈存点进行圈存。具体地点将在“长江日报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--</a:t>
            </a:r>
            <a:r>
              <a:rPr b="0" lang="zh-CN" sz="1800" spc="-1" strike="noStrike">
                <a:solidFill>
                  <a:srgbClr val="073e87"/>
                </a:solidFill>
                <a:latin typeface="微软雅黑"/>
                <a:ea typeface="微软雅黑"/>
              </a:rPr>
              <a:t>最武汉”微信平台上公布，或者由学校通知，圈存所需密码与手机验证码相同。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73e87"/>
                </a:solidFill>
                <a:latin typeface="微软雅黑"/>
                <a:ea typeface="微软雅黑"/>
              </a:rPr>
              <a:t>应用宝下载入口：</a:t>
            </a:r>
            <a:r>
              <a:rPr b="0" lang="en-US" sz="1400" spc="-1" strike="noStrike">
                <a:solidFill>
                  <a:srgbClr val="073e87"/>
                </a:solidFill>
                <a:latin typeface="微软雅黑"/>
                <a:ea typeface="微软雅黑"/>
              </a:rPr>
              <a:t>http://a.app.qq.com/o/simple.jsp?pkgname=com.ncape.wht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73e87"/>
                </a:solidFill>
                <a:latin typeface="微软雅黑"/>
                <a:ea typeface="微软雅黑"/>
              </a:rPr>
              <a:t>豌豆荚下载入口：</a:t>
            </a:r>
            <a:r>
              <a:rPr b="0" lang="en-US" sz="1400" spc="-1" strike="noStrike">
                <a:solidFill>
                  <a:srgbClr val="073e87"/>
                </a:solidFill>
                <a:latin typeface="微软雅黑"/>
                <a:ea typeface="微软雅黑"/>
              </a:rPr>
              <a:t>http://www.wandoujia.com/apps/com.ncape.wht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微软雅黑"/>
                <a:ea typeface="微软雅黑"/>
              </a:rPr>
              <a:t>360</a:t>
            </a:r>
            <a:r>
              <a:rPr b="0" lang="zh-CN" sz="1400" spc="-1" strike="noStrike">
                <a:solidFill>
                  <a:srgbClr val="073e87"/>
                </a:solidFill>
                <a:latin typeface="微软雅黑"/>
                <a:ea typeface="微软雅黑"/>
              </a:rPr>
              <a:t>下载入口：</a:t>
            </a:r>
            <a:r>
              <a:rPr b="0" lang="en-US" sz="1400" spc="-1" strike="noStrike">
                <a:solidFill>
                  <a:srgbClr val="073e87"/>
                </a:solidFill>
                <a:latin typeface="微软雅黑"/>
                <a:ea typeface="微软雅黑"/>
              </a:rPr>
              <a:t>http://m.app.so.com/detail/index?pname=com.ncape.wht&amp;id=1844270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73e87"/>
                </a:solidFill>
                <a:latin typeface="微软雅黑"/>
                <a:ea typeface="微软雅黑"/>
              </a:rPr>
              <a:t>安智市场下载入口：</a:t>
            </a:r>
            <a:r>
              <a:rPr b="0" lang="en-US" sz="1400" spc="-1" strike="noStrike">
                <a:solidFill>
                  <a:srgbClr val="073e87"/>
                </a:solidFill>
                <a:latin typeface="微软雅黑"/>
                <a:ea typeface="微软雅黑"/>
              </a:rPr>
              <a:t>http://m.anzhi.com/info_1753170.html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武汉通行</a:t>
            </a:r>
            <a:r>
              <a:rPr b="0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App</a:t>
            </a:r>
            <a:r>
              <a:rPr b="0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支持的机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66560" y="2708280"/>
            <a:ext cx="309744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“</a:t>
            </a:r>
            <a:r>
              <a:rPr b="0" lang="zh-CN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武汉通行”</a:t>
            </a: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APP</a:t>
            </a:r>
            <a:r>
              <a:rPr b="0" lang="zh-CN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兼容机型列表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三星：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GALAXY S3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GALAXY S4</a:t>
            </a:r>
            <a:r>
              <a:rPr b="0" lang="zh-CN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（须更新至最新系统）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GALAXY S5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GALAXY Note 2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GALAXY Note 3</a:t>
            </a:r>
            <a:r>
              <a:rPr b="0" lang="zh-CN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（须更新至最新系统）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GALAXY S3 DUOS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GALAXY MEGA Plus</a:t>
            </a:r>
            <a:r>
              <a:rPr b="0" lang="zh-CN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（须更新至最新系统）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GALAXY MEGA</a:t>
            </a:r>
            <a:r>
              <a:rPr b="0" lang="zh-CN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（须更新至最新系统）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GALAXY Premier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GALAXY GRAND2</a:t>
            </a:r>
            <a:r>
              <a:rPr b="0" lang="zh-CN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（须更新至最新系统）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GALAXY GRAND Neo+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GALAXY CORE Advance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GALAXY Win Pro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443280" y="2711160"/>
            <a:ext cx="252108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OPPO</a:t>
            </a:r>
            <a:r>
              <a:rPr b="0" lang="zh-CN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N1</a:t>
            </a:r>
            <a:r>
              <a:rPr b="0" lang="zh-CN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、</a:t>
            </a:r>
            <a:r>
              <a:rPr b="0" lang="en-US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Find 5</a:t>
            </a:r>
            <a:r>
              <a:rPr b="0" lang="zh-CN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、</a:t>
            </a:r>
            <a:r>
              <a:rPr b="0" lang="en-US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Find 7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VIVO</a:t>
            </a:r>
            <a:r>
              <a:rPr b="0" lang="zh-CN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X</a:t>
            </a:r>
            <a:r>
              <a:rPr b="0" lang="zh-CN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、</a:t>
            </a:r>
            <a:r>
              <a:rPr b="0" lang="en-US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Xplay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Smartisan</a:t>
            </a:r>
            <a:r>
              <a:rPr b="0" lang="zh-CN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（锤子）：</a:t>
            </a:r>
            <a:r>
              <a:rPr b="0" lang="en-US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T1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InFocus</a:t>
            </a:r>
            <a:r>
              <a:rPr b="0" lang="zh-CN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M512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华为：</a:t>
            </a:r>
            <a:r>
              <a:rPr b="0" lang="en-US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T8959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努比亚：</a:t>
            </a:r>
            <a:r>
              <a:rPr b="0" lang="en-US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Z5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中兴：</a:t>
            </a:r>
            <a:r>
              <a:rPr b="0" lang="en-US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U807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泛泰：</a:t>
            </a:r>
            <a:r>
              <a:rPr b="0" lang="en-US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IM-A820L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酷派：</a:t>
            </a:r>
            <a:r>
              <a:rPr b="0" lang="en-US" sz="1200" spc="-1" strike="noStrike">
                <a:solidFill>
                  <a:srgbClr val="073e87"/>
                </a:solidFill>
                <a:latin typeface="微软雅黑"/>
                <a:ea typeface="微软雅黑"/>
              </a:rPr>
              <a:t>8085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内容占位符 4"/>
          <p:cNvSpPr/>
          <p:nvPr/>
        </p:nvSpPr>
        <p:spPr>
          <a:xfrm>
            <a:off x="3635280" y="2717640"/>
            <a:ext cx="2665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HTC</a:t>
            </a:r>
            <a:r>
              <a:rPr b="0" lang="zh-CN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(New)O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One X</a:t>
            </a:r>
            <a:r>
              <a:rPr b="0" lang="zh-CN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、</a:t>
            </a: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One X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HTC One J(M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Incredible 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BUTTERF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Desi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E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小米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MI 2A</a:t>
            </a:r>
            <a:r>
              <a:rPr b="0" lang="zh-CN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、</a:t>
            </a: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MI 3</a:t>
            </a:r>
            <a:r>
              <a:rPr b="0" lang="zh-CN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（须更新至最新系统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Sony</a:t>
            </a:r>
            <a:r>
              <a:rPr b="0" lang="zh-CN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Xperia 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Xperia 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Xperia L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Xperia X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Xperia X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微软雅黑"/>
                <a:ea typeface="微软雅黑"/>
              </a:rPr>
              <a:t>Xperia M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1T03:29:00Z</dcterms:created>
  <dc:creator>alaTest</dc:creator>
  <dc:description/>
  <dc:language>en-US</dc:language>
  <cp:lastModifiedBy>USER-</cp:lastModifiedBy>
  <dcterms:modified xsi:type="dcterms:W3CDTF">2015-09-17T03:50:02Z</dcterms:modified>
  <cp:revision>14</cp:revision>
  <dc:subject/>
  <dc:title>2015武汉大学生公交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